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6BF-7679-4B35-A0A6-2CDAB4F6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1FD-29BF-48F3-B1BD-84EF7A47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0A0-7CD1-4760-A348-599D37DB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628-E3A0-4E01-B041-833B669D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B65-BC72-484C-996A-48517AC1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7D4-5511-46D9-BD1A-8746247F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0AF-6E7A-499D-B2D0-530661F2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7E5-6F8E-4F64-AAFD-DF3A33E7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A4C-C615-4A48-88BC-87133C9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A4B-A8D4-4920-A134-BC5ACDB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98B-E97C-4C34-BC61-A98DE996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999-00A1-42A0-9E64-28B7BF3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FDB3-9B73-498D-80A0-A77F3B7082D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© 2009 Robert Adun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5B1-990D-49E0-9CAA-716E7C67B76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170000"/>
            <a:ext cx="82771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" name=""/>
          <p:cNvCxnSpPr/>
          <p:nvPr/>
        </p:nvCxnSpPr>
        <p:spPr>
          <a:xfrm>
            <a:off x="4635000" y="3191040"/>
            <a:ext cx="10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" name=""/>
          <p:cNvCxnSpPr/>
          <p:nvPr/>
        </p:nvCxnSpPr>
        <p:spPr>
          <a:xfrm>
            <a:off x="4635000" y="4725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" name=""/>
          <p:cNvCxnSpPr/>
          <p:nvPr/>
        </p:nvCxnSpPr>
        <p:spPr>
          <a:xfrm>
            <a:off x="3108240" y="406512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" name=""/>
          <p:cNvCxnSpPr/>
          <p:nvPr/>
        </p:nvCxnSpPr>
        <p:spPr>
          <a:xfrm flipH="1">
            <a:off x="5938560" y="406512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" name=""/>
          <p:cNvCxnSpPr/>
          <p:nvPr/>
        </p:nvCxnSpPr>
        <p:spPr>
          <a:xfrm>
            <a:off x="3108240" y="560196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" name=""/>
          <p:cNvCxnSpPr/>
          <p:nvPr/>
        </p:nvCxnSpPr>
        <p:spPr>
          <a:xfrm>
            <a:off x="5938920" y="560196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" name=""/>
          <p:cNvSpPr/>
          <p:nvPr/>
        </p:nvSpPr>
        <p:spPr>
          <a:xfrm>
            <a:off x="3332160" y="4940280"/>
            <a:ext cx="2606760" cy="13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332160" y="3403440"/>
            <a:ext cx="26067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332160" y="1868400"/>
            <a:ext cx="26067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03280" y="4940280"/>
            <a:ext cx="2604960" cy="13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03280" y="340344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03280" y="186840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6164280" y="4940280"/>
            <a:ext cx="2604960" cy="13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6164280" y="340344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164280" y="186840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" name=""/>
          <p:cNvCxnSpPr/>
          <p:nvPr/>
        </p:nvCxnSpPr>
        <p:spPr>
          <a:xfrm>
            <a:off x="3108240" y="252864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" name=""/>
          <p:cNvCxnSpPr/>
          <p:nvPr/>
        </p:nvCxnSpPr>
        <p:spPr>
          <a:xfrm>
            <a:off x="5938920" y="252864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" name=""/>
          <p:cNvCxnSpPr/>
          <p:nvPr/>
        </p:nvCxnSpPr>
        <p:spPr>
          <a:xfrm>
            <a:off x="1806120" y="3191040"/>
            <a:ext cx="10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" name=""/>
          <p:cNvCxnSpPr/>
          <p:nvPr/>
        </p:nvCxnSpPr>
        <p:spPr>
          <a:xfrm>
            <a:off x="1806120" y="4725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" name=""/>
          <p:cNvCxnSpPr/>
          <p:nvPr/>
        </p:nvCxnSpPr>
        <p:spPr>
          <a:xfrm>
            <a:off x="7467120" y="3191040"/>
            <a:ext cx="10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" name=""/>
          <p:cNvCxnSpPr/>
          <p:nvPr/>
        </p:nvCxnSpPr>
        <p:spPr>
          <a:xfrm>
            <a:off x="7467120" y="4725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" name=""/>
          <p:cNvSpPr/>
          <p:nvPr/>
        </p:nvSpPr>
        <p:spPr>
          <a:xfrm>
            <a:off x="503280" y="503280"/>
            <a:ext cx="827712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berz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2966760" y="340344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2967840" y="3708360"/>
            <a:ext cx="15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2966760" y="494028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2966400" y="5245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2966760" y="186840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2966040" y="217332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37880" y="340344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38960" y="3708360"/>
            <a:ext cx="15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37880" y="494028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37520" y="5245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37880" y="186840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37160" y="217332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798880" y="340344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799960" y="3708360"/>
            <a:ext cx="15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798880" y="494028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798520" y="5245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8880" y="186840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8160" y="217332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78520" y="338148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ährend de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iess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9760" y="3965400"/>
            <a:ext cx="212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zes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„Tontaubenschiess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B0C-84C7-49AE-9657-DD1CEACA09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A1E0A-A4F4-4A3C-BA7A-8BD37B6F1E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D10-B8BA-4865-B097-884679D18A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6F4FA-290C-44D7-8ED0-F4AA0D153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0:57:36Z</dcterms:created>
  <dc:creator>Dr. Robert Adunka</dc:creator>
  <dc:description/>
  <dc:language>en-US</dc:language>
  <cp:lastModifiedBy>road</cp:lastModifiedBy>
  <cp:lastPrinted>2001-12-10T12:36:55Z</cp:lastPrinted>
  <dcterms:modified xsi:type="dcterms:W3CDTF">2010-04-22T20:31:52Z</dcterms:modified>
  <cp:revision>377</cp:revision>
  <dc:subject/>
  <dc:title>Arbeitsblätter zum problemorientierten Neun-Felder-Denken</dc:title>
</cp:coreProperties>
</file>