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472-84FF-40F2-9C70-A0FA238B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1CD-D148-482F-A53C-93822B35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05B-279E-4614-8E90-CF776C09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A75-4522-447C-81BD-1EDFE174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D9D-F28D-403D-B2FD-66804927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BD5-B799-48A0-BE1F-7DDFA15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B9D-D72B-4884-AED5-E9C322E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3FF-86CF-4491-AD57-BD38A1D3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AF7-3460-4E86-961B-E36AE74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EAD-F52C-45D9-B9B4-7D7B394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364-0238-4526-A1FA-F744E0A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C80-D060-4246-92CD-8CB61FD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80D0-5210-447A-B62F-F1E73EC45B8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© 2009 Robert Adun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6DE9-F5B5-48FA-9244-0DDE8006A84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51320" y="22320"/>
            <a:ext cx="12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kun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hr: 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26040" y="22320"/>
            <a:ext cx="1253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genw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hr: 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22200" y="22320"/>
            <a:ext cx="1660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ang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hr: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44360" y="738360"/>
            <a:ext cx="8729280" cy="5591880"/>
            <a:chOff x="144360" y="738360"/>
            <a:chExt cx="8729280" cy="5591880"/>
          </a:xfrm>
        </p:grpSpPr>
        <p:sp>
          <p:nvSpPr>
            <p:cNvPr id="7" name=""/>
            <p:cNvSpPr/>
            <p:nvPr/>
          </p:nvSpPr>
          <p:spPr>
            <a:xfrm>
              <a:off x="3628440" y="477648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9080" y="4776480"/>
              <a:ext cx="244548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" name=""/>
            <p:cNvCxnSpPr/>
            <p:nvPr/>
          </p:nvCxnSpPr>
          <p:spPr>
            <a:xfrm>
              <a:off x="4851720" y="2291760"/>
              <a:ext cx="1080" cy="46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" name=""/>
            <p:cNvCxnSpPr/>
            <p:nvPr/>
          </p:nvCxnSpPr>
          <p:spPr>
            <a:xfrm>
              <a:off x="4851720" y="4309200"/>
              <a:ext cx="1080" cy="4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" name=""/>
            <p:cNvSpPr/>
            <p:nvPr/>
          </p:nvSpPr>
          <p:spPr>
            <a:xfrm>
              <a:off x="3628440" y="2753280"/>
              <a:ext cx="2445840" cy="15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9080" y="2753280"/>
              <a:ext cx="2445480" cy="15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27800" y="2753280"/>
              <a:ext cx="2445840" cy="15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" name=""/>
            <p:cNvCxnSpPr/>
            <p:nvPr/>
          </p:nvCxnSpPr>
          <p:spPr>
            <a:xfrm>
              <a:off x="3274560" y="3529800"/>
              <a:ext cx="35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" name=""/>
            <p:cNvCxnSpPr/>
            <p:nvPr/>
          </p:nvCxnSpPr>
          <p:spPr>
            <a:xfrm flipH="1">
              <a:off x="6074280" y="3532320"/>
              <a:ext cx="35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" name=""/>
            <p:cNvSpPr/>
            <p:nvPr/>
          </p:nvSpPr>
          <p:spPr>
            <a:xfrm>
              <a:off x="6427800" y="477648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" name=""/>
            <p:cNvCxnSpPr/>
            <p:nvPr/>
          </p:nvCxnSpPr>
          <p:spPr>
            <a:xfrm>
              <a:off x="3274560" y="5555520"/>
              <a:ext cx="35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" name=""/>
            <p:cNvCxnSpPr/>
            <p:nvPr/>
          </p:nvCxnSpPr>
          <p:spPr>
            <a:xfrm>
              <a:off x="6074640" y="5553360"/>
              <a:ext cx="35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" name=""/>
            <p:cNvSpPr/>
            <p:nvPr/>
          </p:nvSpPr>
          <p:spPr>
            <a:xfrm>
              <a:off x="3628440" y="73836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9080" y="738360"/>
              <a:ext cx="244548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427800" y="73836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" name=""/>
            <p:cNvCxnSpPr/>
            <p:nvPr/>
          </p:nvCxnSpPr>
          <p:spPr>
            <a:xfrm>
              <a:off x="3274560" y="1517040"/>
              <a:ext cx="35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" name=""/>
            <p:cNvCxnSpPr/>
            <p:nvPr/>
          </p:nvCxnSpPr>
          <p:spPr>
            <a:xfrm>
              <a:off x="6074640" y="1514520"/>
              <a:ext cx="35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" name=""/>
            <p:cNvSpPr/>
            <p:nvPr/>
          </p:nvSpPr>
          <p:spPr>
            <a:xfrm rot="16200000">
              <a:off x="-256680" y="5253120"/>
              <a:ext cx="1290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Untersyste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-159840" y="3456000"/>
              <a:ext cx="88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6200000">
              <a:off x="-363960" y="1309320"/>
              <a:ext cx="1505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bersyste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" name=""/>
            <p:cNvCxnSpPr/>
            <p:nvPr/>
          </p:nvCxnSpPr>
          <p:spPr>
            <a:xfrm>
              <a:off x="2052360" y="2291760"/>
              <a:ext cx="1080" cy="46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" name=""/>
            <p:cNvCxnSpPr/>
            <p:nvPr/>
          </p:nvCxnSpPr>
          <p:spPr>
            <a:xfrm>
              <a:off x="2052360" y="4309200"/>
              <a:ext cx="1080" cy="4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" name=""/>
            <p:cNvCxnSpPr/>
            <p:nvPr/>
          </p:nvCxnSpPr>
          <p:spPr>
            <a:xfrm>
              <a:off x="7651080" y="2291760"/>
              <a:ext cx="1080" cy="46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" name=""/>
            <p:cNvCxnSpPr/>
            <p:nvPr/>
          </p:nvCxnSpPr>
          <p:spPr>
            <a:xfrm>
              <a:off x="7651080" y="4309200"/>
              <a:ext cx="1080" cy="4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1" name=""/>
          <p:cNvSpPr/>
          <p:nvPr/>
        </p:nvSpPr>
        <p:spPr>
          <a:xfrm flipH="1">
            <a:off x="2891880" y="249120"/>
            <a:ext cx="975960" cy="976320"/>
          </a:xfrm>
          <a:custGeom>
            <a:avLst/>
            <a:gdLst>
              <a:gd name="textAreaLeft" fmla="*/ -360 w 975960"/>
              <a:gd name="textAreaRight" fmla="*/ 975960 w 9759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5821200" y="2491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2652120" y="228600"/>
            <a:ext cx="12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5569920" y="228600"/>
            <a:ext cx="12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828720" y="738360"/>
            <a:ext cx="244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828720" y="800280"/>
            <a:ext cx="244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3235320" y="2774880"/>
            <a:ext cx="26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sches 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1971" t="18568" r="19016" b="69039"/>
          <a:stretch/>
        </p:blipFill>
        <p:spPr>
          <a:xfrm>
            <a:off x="3668760" y="3336840"/>
            <a:ext cx="2362320" cy="37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32320" y="3032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ugelschre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A4F-4886-41C2-B7CD-C85548D383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BD83B-096D-400A-9772-13B7F755DC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C42-6CFE-4118-AF77-EAF049595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4E2AC-95BE-45D7-83C2-DF3AB390AF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0:57:36Z</dcterms:created>
  <dc:creator>Dr. Robert Adunka</dc:creator>
  <dc:description/>
  <dc:language>en-US</dc:language>
  <cp:lastModifiedBy>Z001UX4B</cp:lastModifiedBy>
  <cp:lastPrinted>2001-12-10T12:36:55Z</cp:lastPrinted>
  <dcterms:modified xsi:type="dcterms:W3CDTF">2012-01-04T11:01:50Z</dcterms:modified>
  <cp:revision>375</cp:revision>
  <dc:subject/>
  <dc:title>Arbeitsblätter zum Neun-Felder-Denken</dc:title>
</cp:coreProperties>
</file>